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8A5C-8E2F-4641-A39D-C4E8270C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4C4-F932-41A8-9C26-B6446226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2948A-7C27-4436-8F98-5E6FCDAA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CFA55-D321-4351-9636-E65E3431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7BC0B-9E27-42D3-B87C-84BA3B9F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D8DA7-DF8A-4BE0-B66F-D14DC831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D6F41-AD0F-4FEF-A835-EDF7BAA3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6AABF-BF86-4F17-ADC0-54797E0D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83210-5005-4F36-8BCA-9ED28FFD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2B5DD-BABA-45FD-B4E6-A0DCA7B5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F87BF-BBDC-471F-98AC-8DF573AF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1D6-6E9C-4E3D-9FAF-C2807607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002-FE5F-4DE0-AC98-880237FA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5290-912F-42EE-B194-9F013C63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F862-A9D7-46DD-8F3E-7CB6BF30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03AC-F104-4A03-9F6E-16130DFC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687D-4440-4C9E-9EE0-EBD85FD2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EF50-CC6C-42DE-8319-600733FF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1036-B61E-42A3-AA3D-E08270BF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109A-FF15-4B02-93C6-3E59D44B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18F-06FF-4D3F-814A-C83B9768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2EE6-34EF-4DB6-A19F-46BA01E0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41CE-D74E-4CA0-A9E9-3B36D9E6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D925-78BF-4D67-95C3-00E816C9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C766-D2A8-4B04-AC84-2B3F98EA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06A5-EE33-4F94-9E47-1539A778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B158A-19F1-4953-91D3-65BDEFD7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2749F-EC75-459A-A952-69635FD3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DADE1-0326-4CF1-AF61-E1B8E529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9BF00-54D3-43F3-930E-D639A940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E9F468-33A7-4F7E-9B8E-AF9F087B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277-ADC1-4937-BDF6-5E6C875E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3BA06-D471-47A6-8CBF-C484453D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48492-A9D8-4CE5-BEFD-73FAF059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19154-FDDC-4451-8442-ADAE83AF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76160-7CF8-427C-8DE9-C343F2EE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8875C-202F-480E-90ED-FD438D4E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FBE12-7292-4D89-88E3-A7943DB4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BB2D9-A31A-4F30-A542-1F17BD50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9273B-A375-441A-996D-05D60E04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68A28-002D-46DF-B083-04057D05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331C2-110D-4A41-9E75-7D535CB9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378-8EA5-439B-80D5-D38A27E4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CA99E-7A95-425B-9DC2-73CFBC18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5AC0C-30BF-431D-ABB2-F19923CE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FE865-26DB-4F66-9C88-2BE23222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2D84E-EBBA-413C-800C-2510D3D9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44AB7-0A12-4FAC-B2BF-182EF9B3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01649-2BA6-4202-9876-B59192EE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ABA23-17F2-4F95-B86F-19376DE9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CF209-A22E-4B5A-B2D1-438C6B6E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A1197-3CFB-48C0-B09A-0FF0823B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B7CF2-CA78-4067-9D5A-E70A6BB7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3B2-E010-4998-B5D6-66A08C51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A5A45-589C-470D-BC49-2F0E3698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C5AD3-E343-49C0-81E3-416F4FEE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0ADB1-71DE-48B0-8A85-17E6B3AB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DE00F-90D2-4DF5-B5CE-C766D07D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80870-AC63-44D8-AC8A-A24E9309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8D214-B81B-43B5-808F-30AB8592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46759-5EF2-4B6E-B953-5FD38FF8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E4708-3353-47F3-83BF-FBC17C2C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A2323-185D-4932-ACBD-0D5B7C7A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9FABD-A68E-48A1-B7BE-1FCC4C7B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E70-E87C-4A33-8D09-25F5D7D8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B60DB-12D8-4A25-BC85-0BF81DD0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12593-DDCD-49F7-BE06-A2838AFF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801B2-6607-49FF-8D4F-950458EF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2F5DD-B04A-40E5-B48E-22E8C5D5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8DF99-5B1B-4CB4-A291-CB41D8CB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61E49-040C-433F-AFEA-4379DF45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FCB6C-DB7C-41E5-8DD3-1FD04619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08DDF-883C-4727-834D-95C65B4E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5CE84-08CA-4E6E-A0E7-59FFC1AE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6B42D-2878-4827-9256-EB4B2296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B38-9D73-463B-90B8-4926B733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083B7-9FD9-49A8-B336-E422C613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FE21C-FBD2-4FDC-8B2C-A6DF1C3D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81CC6-14DF-47FE-A460-72207CC8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74F5D-1658-4419-85BB-3D435623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18050-19DD-4B8F-8533-B6765A72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6CA45-23D5-4A02-AEDB-F44BC60A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ED2BD-AF2A-479F-8B92-C036792C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82298-9672-465C-B223-363D37C9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4F5A5-9AD3-49D1-8E63-5A22202D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27F27-F0B6-4010-BA64-647A4047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E52-24D1-4D18-B27E-3C072457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4F862-D703-470F-B142-282544B7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600BB-24CC-4609-B5E2-232F2950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DCD08-AC2C-47D7-B408-08458349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CFB3C-368C-48E4-8473-17DFA6F0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E61AA-94EF-4820-AEEE-5D6DD3C6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FF528-BD5A-4ABD-A4E1-4D4E1188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788D5-4A00-45C1-85EF-27230B93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50641-CCB8-4711-9668-BB52DF03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61A4B-A50B-41B9-8A77-8151AF57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AD7D8-3C9E-4757-97BC-E3C87A35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BFE-75AC-4BC8-B207-159CC00E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E54EC-1151-48B9-8F5E-C15F2897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9D8FD-AADD-491A-8F8D-161F08EE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1408F-579F-4555-B26F-F1D58656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BF497-6869-4734-A8FF-E87CD00E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12D46-364F-4AD4-B6D8-29331AD7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4988B-07F0-433F-8082-EBCA7F76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7AED3-529F-4D6C-9A59-2BA1B4B4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114C0-222F-4597-88C6-B00C29F3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135A2-2AC8-4EF4-B0A0-0C82FC6C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4619B-7912-4050-8740-597AAA2E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E311-D6B4-4B13-A326-E41B6677B8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4867-560F-4F8D-B6B8-177AE7ACA5E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2E79-75FD-4A66-94F6-405AD85D1B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3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Овал 1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39" name="Овал 1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1" name="Овал 2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617F-517C-4FE0-B68A-95FC3540E8B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5" name="Овал 3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86" name="Овал 3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8" name="Овал 5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AEB5-6A4B-41F0-9423-28D5816F9A2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3F58-05EA-4751-814C-6211CD916B1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6447-2EF5-481F-B9F2-12F4935B50A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F95A-F16D-4A09-91AE-12148478F22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Прямоугольник 1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56" name="Прямоугольник 1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8" name="Блок-схема: процесс 2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Блок-схема: процесс 3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1E0D-2627-4281-8D4D-2A2CD224700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13" descr="bc2030-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4"/>
          <p:cNvSpPr/>
          <p:nvPr/>
        </p:nvSpPr>
        <p:spPr>
          <a:xfrm>
            <a:off x="1660680" y="1484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5"/>
          <p:cNvSpPr/>
          <p:nvPr/>
        </p:nvSpPr>
        <p:spPr>
          <a:xfrm>
            <a:off x="457200" y="9144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нергоэффективный дом. Биоисточник энерг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3c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cc"/>
                </a:solidFill>
                <a:latin typeface="Corbel"/>
              </a:rPr>
              <a:t>Спасибо за внимание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Цели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омочь людям сэкономить энергию через новый биоисточник.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62120" y="274320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Задачи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       Разработать прибор для получения дешевой дополнительной энергии с минимальными затратами. Способствовать очищению эколог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b10396710ca6c61a9f440f5e23dd346f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Без чего не может существовать человечество? Что произойдет со всеми нами, когда через 5 млрд. лет не станет Солнца? Гибель всех живых существ – это еще минимум. Слово «свет» мы олицетворяем со словом «жизнь». И, естественно, люди всех времен и народов ищут пути и возможности получения новых источников световой энергии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 ведь это здорово, что благодаря лишь взаимодействию между органическими веществами, морской водой с участием бактерий в придонном слое морей и океанов образуется так называемое естественное электричество. В новых источниках энергии могут быть использованы явления разложения окисления органических веществ, приводящие к выработке электроэнергии. Известно, что в придонном слое океана образуется электричество, там как бы имеется гигантский топливный элемент. Состав морской воды довольно сложный и включает в себя около 70 химических элементов, которые непрерывно взаимодействуют друг с другом. В результате этого происходят многочисленные реакции окисления, и при взаимодействии с кислородом выделяется энергия, которою можно использовать для получения электрического тока. Происходит превращение химической энергии в электрическую. 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       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аблица расчетов по          биоисточнику энергии 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(*КОЕ – количество органических единиц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533520" y="1596960"/>
          <a:ext cx="7619760" cy="4880160"/>
        </p:xfrm>
        <a:graphic>
          <a:graphicData uri="http://schemas.openxmlformats.org/drawingml/2006/table">
            <a:tbl>
              <a:tblPr/>
              <a:tblGrid>
                <a:gridCol w="1523880"/>
                <a:gridCol w="2746440"/>
                <a:gridCol w="1674720"/>
                <a:gridCol w="1674720"/>
              </a:tblGrid>
              <a:tr h="658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 в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раченные ресур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аемое напря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ход на потребит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м</a:t>
                      </a:r>
                      <a:r>
                        <a:rPr b="0" lang="ru-RU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кг водорослей, 3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Е термолерантных колиформные бактерии, 1,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КОЕ общих колиформные бактерии, объем кислорода – 0,5 м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м</a:t>
                      </a:r>
                      <a:r>
                        <a:rPr b="0" lang="ru-RU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кг водорослей, 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Е термолерантных колиформные бактерии, 3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КОЕ общих колиформные бактерии, объем кислорода – 1 м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м</a:t>
                      </a:r>
                      <a:r>
                        <a:rPr b="0" lang="ru-RU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кг водорослей, 9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Е термолерантных колиформные бактерии, 4,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КОЕ общих колиформные бактерии, объем кислорода – 1,5 м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8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аким образом, от прибора можно питать минимум подсветку квартиры с применением твердотельных источников света. Особенно это удобно, если есть маленькие дети и необходим ночной уход. Бесспорное преимущество прибора в том, что затраты самые минимальны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бор экологически чист и плюс ко всему еще очищает окружающую среду. И в заключении, я хочу сказать словами Р. Фейнмана «Нам необыкновенно повезло, что мы живем в век, когда еще можно делать открытия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1828800" y="600120"/>
            <a:ext cx="579132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ЛИТЕРАТУ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) Дмитриева В.Ф. Физика.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[Текст]: учеб. пособие для школьников/ В.Ф. Дмитриева.- 3-е изд., стер. – М.: Aкадемия, 2007. – 580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) Павленко   Ю.Г.    Физика.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[Текст]: учеб. пособие для школьников/ Ю.Г. Павленко. -  4-е изд.,    стереотип. – М.: Академия, 2005. – 566,[1]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) Перельман  Я.И.   Занимательная   физика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[Текст]: занимательная литература для школьников/ Я.И. Перельман. 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М.: Дрофа, 1994.-360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)  Алексеева М.Н.,  Физика – юным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[Текст]: занимательная литература для школьников/М.Н.Алексеева. 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М.: Просвещение, 1980.-400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)   Цифровые образовательные ресурсы. 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                                                                                         </a:t>
            </a:r>
            <a:r>
              <a:rPr b="0" lang="ru-RU" sz="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Работу выполнила: 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20" name="Rectangle 3" descr=""/>
          <p:cNvPicPr/>
          <p:nvPr/>
        </p:nvPicPr>
        <p:blipFill>
          <a:blip r:embed="rId1"/>
          <a:stretch/>
        </p:blipFill>
        <p:spPr>
          <a:xfrm>
            <a:off x="-1371600" y="1603440"/>
            <a:ext cx="10223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 Маликова</cp:lastModifiedBy>
  <dcterms:modified xsi:type="dcterms:W3CDTF">2024-05-17T07:59:0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